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311-D04A-403C-A65D-2F26627A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F95-5276-4196-B9CD-87DD8537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EFB-0F18-47D5-99E9-57FD5B44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974-24F2-49F3-B90F-B6166CBB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5D2-F8FE-4AF1-BD10-E6B56B3D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3C4-4DBC-4F60-B517-B8D7B29E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677-FD35-41D6-8373-859A87F1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ED1-A4BB-4765-8FF1-DC517155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F3B-95C9-4B34-8C44-4C83385A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2F4-9EAD-4C33-911F-9AE0487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7C0-DFED-47B8-A825-9FD42E4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EBA-A114-4341-AF5A-497BE48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0445-7EE4-41A8-81E0-B0438F569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54F8-8274-473E-9F49-4977A83C1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1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тиляция аспирация и кондиционирование предприятий П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C:\Users\dima\Desktop\osobennosti-promyshlennoy-ventilyatsii.jpg"/>
          <p:cNvPicPr/>
          <p:nvPr/>
        </p:nvPicPr>
        <p:blipFill>
          <a:blip r:embed="rId1"/>
          <a:stretch/>
        </p:blipFill>
        <p:spPr>
          <a:xfrm>
            <a:off x="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Users\dima\Desktop\osobennosti-promyshlennoy-ventilyatsii.jpg"/>
          <p:cNvPicPr/>
          <p:nvPr/>
        </p:nvPicPr>
        <p:blipFill>
          <a:blip r:embed="rId2"/>
          <a:stretch/>
        </p:blipFill>
        <p:spPr>
          <a:xfrm>
            <a:off x="327672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dima\Desktop\osobennosti-promyshlennoy-ventilyatsii.jpg"/>
          <p:cNvPicPr/>
          <p:nvPr/>
        </p:nvPicPr>
        <p:blipFill>
          <a:blip r:embed="rId3"/>
          <a:stretch/>
        </p:blipFill>
        <p:spPr>
          <a:xfrm>
            <a:off x="5904000" y="3559320"/>
            <a:ext cx="3240000" cy="329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:\Users\dima\Desktop\pnevmotransport111.jpg"/>
          <p:cNvPicPr/>
          <p:nvPr/>
        </p:nvPicPr>
        <p:blipFill>
          <a:blip r:embed="rId4"/>
          <a:stretch/>
        </p:blipFill>
        <p:spPr>
          <a:xfrm>
            <a:off x="0" y="0"/>
            <a:ext cx="3564000" cy="229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:\Users\dima\Desktop\pnevmotransport111.jpg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и вентиляционных воздухопроводов при движении воздуха различают три вида давлений: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татическое Р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Arial"/>
              </a:rPr>
              <a:t>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инамическое Р</a:t>
            </a:r>
            <a:r>
              <a:rPr b="1" lang="ru-RU" sz="2400" spc="-1" strike="noStrike" baseline="-25000">
                <a:solidFill>
                  <a:srgbClr val="7030a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бщее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39640" y="4149720"/>
            <a:ext cx="81360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ое давление в атмосфере помещ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Зависимость между избыточными давл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83F7-9438-4A46-9839-CD448109D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3203640" y="1773360"/>
            <a:ext cx="2371680" cy="133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2843280" y="3213000"/>
            <a:ext cx="340020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541044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7917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икроманомет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нтиляционной технике приходится измерять очень малые избыточные давления и разрежения от 5 до 3000 П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манометры бывают жидкостные(водяные и спиртовые)  и мембранны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нцип действия жидкостных микроманометров основан на вытеснении и перемещении жидкости в сообщающихся сосудах под действием разности давлений, уравновешиваемых гидростатическим давлением столба жидкости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E886-DB16-4083-AD34-D76A7D059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хтрубный U-образный маномет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ит из стеклянной трубки, изогнутой в виде буквы U. Трубка укреплена на доске со шкалой, расположенной между ветвями трубки. Трубка манометра заполнена жидкостью (ртутью, водой, спиртом). Система находится в равновесии, если гидростатическое давление столба жидкости в открытом колене манометра уравновешивается давлением в другом кол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5300640"/>
            <a:ext cx="7848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2. Схема измерения статического давления в воздухопро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стейшим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образным микроманометром при Р</a:t>
            </a:r>
            <a:r>
              <a:rPr b="0" lang="ru-RU" sz="1800" spc="-1" strike="noStrike" baseline="-25000">
                <a:solidFill>
                  <a:srgbClr val="00206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&gt; Р</a:t>
            </a:r>
            <a:r>
              <a:rPr b="0" lang="ru-RU" sz="1800" spc="-1" strike="noStrike" baseline="-25000">
                <a:solidFill>
                  <a:srgbClr val="00206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разный микроманометр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опровод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уце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иновая 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2352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б жидкости высот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опустившегося уровня в правом колене до поднявшегося уровня в левом колене трубки микроманометра уравновешивает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давление в воздухопроводе Р</a:t>
            </a:r>
            <a:r>
              <a:rPr b="0" lang="ru-RU" sz="2000" spc="-1" strike="noStrike" baseline="-25000">
                <a:solidFill>
                  <a:srgbClr val="7030a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атмосферное давление Р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ют по следующей 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640" y="292428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давление, равное весу столба жидкости высот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ному на площадь поперечного сечения тру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ыражая вес столба жидкости через объем и плотность, 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8E01-3D4A-478B-BBDB-2B2BA3F0C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438800" cy="847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1908000" y="4437000"/>
            <a:ext cx="5457960" cy="9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2124000" y="5661000"/>
            <a:ext cx="45529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479736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.3. Схема измерения давления в воздухопроводе микроманометром с наклонной шкалой при Рв &lt; Ра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хема измерения избыточных давлений чашечным микроманометром с наклонной шка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CD3C-4B07-4E1A-BD5E-130FE0D33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C:\Users\dima\Desktop\790px-BernoullisLawDerivationDiagram.svg.jpg"/>
          <p:cNvPicPr/>
          <p:nvPr/>
        </p:nvPicPr>
        <p:blipFill>
          <a:blip r:embed="rId1"/>
          <a:stretch/>
        </p:blipFill>
        <p:spPr>
          <a:xfrm>
            <a:off x="539640" y="1125360"/>
            <a:ext cx="816300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6204-18E5-418B-8BEF-8CFE72E5B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давление первой составляюще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ы тяжести столба жидкости в трубке, которое уравновешивает разность измеряемых давлен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ление первой составляющей столба жидкости можно выразить через площадь поперечного сечения трубки, объем и плотность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75240" cy="641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280" y="19440"/>
            <a:ext cx="83534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равнение равновесия в чашечном микроманометре с наклонной шкалой при Рв &lt; Ра имеет следующий в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441036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7375-0577-4D30-875D-118E19732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395280" y="2133720"/>
            <a:ext cx="8424720" cy="17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Ы СОХРАНЕНИЯ МАССЫ И ЭНЕРГИИ П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ИЗМЕРЕНИЕ ДАВЛЕНИЙ В ВОЗДУХОПРОВОДАХ И СХЕМА ПОДКЛЮЧЕНИЙ МИКРОМАНО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ГРАФИК РАСПРЕДЕЛЕНИЯ ДАВЛЕНИЙ В ВЕНТИЛЯЦИОННЫХ ВОЗДУХОПРОВ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A300-1E70-4CB8-8DC7-1EB894D4B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ЗАКОНЫ СОХРАНЕНИЯ МАССЫ И ЭНЕРГИИ ПОТОКОВ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нтиляционных системах плотность воздуха в большинстве случаев остается постоянной, а скорость движения воздуха в каждой точке с течением времени не изменяется ни по величине, ни по направлению. В этом случае для двух сечений одного и того же по­тока можно записать уравнение рас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386028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ответственно скорость воздуха в сечениях 1-1 и 2-2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, F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ответственно площади сечений 1-1 и 2-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изводительность при расчете воздухопроводов и вентиляторов принято измерять в м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/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00L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0528-0D35-4799-841C-EFFFB714F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547640" y="3645000"/>
            <a:ext cx="5818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29228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.1. Закон сохранения массы потока для воздухопровода переменного 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714B-75EC-4144-93E1-98C59C51F6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Users\dima\Desktop\790px-BernoullisLawDerivationDiagram.svg.jpg"/>
          <p:cNvPicPr/>
          <p:nvPr/>
        </p:nvPicPr>
        <p:blipFill>
          <a:blip r:embed="rId1"/>
          <a:stretch/>
        </p:blipFill>
        <p:spPr>
          <a:xfrm>
            <a:off x="611280" y="404640"/>
            <a:ext cx="75247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378936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сота расположения центров тяжести сечений 1 и 2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P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- давление воздуха в центре сечений 1 и 2;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е скорости потока воздуха в сечениях 1 и 2;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потери полного давления между сечениями 1 и 2, в общем случае складывающиеся из потерь на трение и на местные сопротивления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Закон сохранения энергии для установившегося потока постоянной плотности в поле сил земного притяжения выражается уравнением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61D8-FDA7-4E18-B3D9-A84E29C41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1579680"/>
            <a:ext cx="914400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апор воздуха представляют собой соответственно: 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 удельную потенциальную энергию положения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 удельную потенциальную энергию давления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 удельную кинетическую энергию потока в данном сечении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14E4-FA63-4B6C-B639-DCE238468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395280" y="0"/>
            <a:ext cx="8348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08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CDC0-F0AF-412B-A5CD-2CDFE058F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вентиляционных системах при движении воздуха различ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тери напора в воздухопроводе, где течение равномерное, эпюра скоростей и средняя скорость не изменяются по длине участка (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тери напора на трение по длине воздухопроводов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7030a0"/>
                </a:solidFill>
                <a:latin typeface="Arial"/>
              </a:rPr>
              <a:t>n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рассчитываемые по уравнению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259236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Заголовок 8"/>
          <p:cNvSpPr/>
          <p:nvPr/>
        </p:nvSpPr>
        <p:spPr>
          <a:xfrm>
            <a:off x="250920" y="3500280"/>
            <a:ext cx="7989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езразмерный коэффициент тр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, 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соответственно длина воздухопровода, диаметр, средняя скорость по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B793-E361-49F5-9E33-69406366E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ри напора на участках, где течение неравномерное, эпюра скоростей и средняя скорость изменяются (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естные потери нап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читываемые по уравн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8"/>
          <p:cNvSpPr/>
          <p:nvPr/>
        </p:nvSpPr>
        <p:spPr>
          <a:xfrm>
            <a:off x="250920" y="3500280"/>
            <a:ext cx="8569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размерный коэффициент местного сопротив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ускорение силы тяж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152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Измерение давлений в воздухопроводах и схема подключений микромано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23640" y="3284280"/>
            <a:ext cx="8569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 вентиляционной технике давление обозна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- абсолютное давл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±Н - избыточное давлени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е. разность межд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ым давлением 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змеряемой точке и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атмосферным давлением 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мещ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 &gt;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быточное давление Н положительно («плюс»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 &lt; Ра - отрицательно («минус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4EBF-FD92-4860-8916-426D2D50C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77440" cy="1886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348000" y="5229360"/>
            <a:ext cx="20876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5:19:47Z</dcterms:created>
  <dc:creator>User</dc:creator>
  <dc:description/>
  <dc:language>en-US</dc:language>
  <cp:lastModifiedBy>Храм Татианы ДГТУ</cp:lastModifiedBy>
  <dcterms:modified xsi:type="dcterms:W3CDTF">2018-01-16T10:56:11Z</dcterms:modified>
  <cp:revision>98</cp:revision>
  <dc:subject/>
  <dc:title>АВТОМАТИЗАЦИЯ ПРОИЗВОДСТВ В ПИЩЕВОЙ ПРОМЫШЛЕННОСТИ</dc:title>
</cp:coreProperties>
</file>